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8A1BC-E7B8-4F41-AC46-401E64CF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C1A63-AD77-4DB9-9631-47E3EAD0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7E71E-2B73-4455-9CD4-784AE7871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DAFD2-0F67-4EC3-BB92-F48BB7FE3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9D314-B0FA-4D64-A800-CC1D426C1B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1301D-9CB1-4D9E-80A8-FADA5176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7704-B5F5-4F53-ADB5-13B2B7AA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B646E-FF0B-40EA-93DD-F5D68A71F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334AB-20A6-455B-B61E-D9413329F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BAA64-774B-41ED-9253-3D49B3709A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0AEC1-C471-46B2-B685-3C9282D1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30A5-8627-4553-811A-80C24FCC7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098DB-12B5-4DB2-A66D-D515F8278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732BB-C8EF-4701-942A-30E2D7857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C2323-7771-493C-A68B-8F0EC4010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F432-CD90-4E53-A8B3-9EB883AD1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1932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6280"/>
            <a:ext cx="250236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734F8-666C-46E4-A125-AE8B0673F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2BD77-E0E2-4E3D-B725-2C6AC1182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8C19-69F3-45C9-AC13-F3ED639AB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22B21-7DCD-4273-A067-6232C80B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600200" y="96840"/>
            <a:ext cx="5867280" cy="4496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B292-066D-4DB0-924E-9044AB8A1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C853-9C34-4F1C-A4A2-E4C611C1D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380628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45619-5603-43B4-BB7C-1FE9EDD1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219320"/>
            <a:ext cx="3792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3806280"/>
            <a:ext cx="77724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6AD61-EDD3-427E-8514-55A521EFE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44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MG Technical Meeting, Yokohama, April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4343040" y="6248520"/>
            <a:ext cx="1965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F44F0C5-C6AF-4C45-88B3-FBFEF7CEE4CB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33520" y="1143000"/>
            <a:ext cx="81676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 txBox="1"/>
          <p:nvPr/>
        </p:nvSpPr>
        <p:spPr>
          <a:xfrm>
            <a:off x="304920" y="0"/>
            <a:ext cx="942840" cy="1430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124080" y="1676160"/>
            <a:ext cx="5486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190494CD-5C47-4B92-A2C6-906BA3159583}" type="slidenum">
              <a:rPr b="0" lang="en-US" sz="8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52280"/>
            <a:ext cx="1600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Software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Radio</a:t>
            </a:r>
            <a:endParaRPr b="0" i="1" lang="en-US" sz="20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1143000"/>
            <a:ext cx="6567480" cy="0"/>
          </a:xfrm>
          <a:prstGeom prst="line">
            <a:avLst/>
          </a:prstGeom>
          <a:ln w="57240">
            <a:solidFill>
              <a:srgbClr val="cc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5716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54296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1294920"/>
            <a:ext cx="91440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oftware Radio Domain SIG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e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0" y="2742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2 April 2002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Yokohama, JAPAN</a:t>
            </a:r>
            <a:br>
              <a:rPr sz="2400"/>
            </a:b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094800" y="5257800"/>
            <a:ext cx="270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Software Radio DSIG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Email: swradio@omg.org</a:t>
            </a:r>
            <a:br>
              <a:rPr sz="1800"/>
            </a:b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Web Site: swradio.omg.or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1" descr=""/>
          <p:cNvPicPr/>
          <p:nvPr/>
        </p:nvPicPr>
        <p:blipFill>
          <a:blip r:embed="rId1"/>
          <a:stretch/>
        </p:blipFill>
        <p:spPr>
          <a:xfrm>
            <a:off x="1523880" y="3962520"/>
            <a:ext cx="1322640" cy="11858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952880" y="3962520"/>
            <a:ext cx="34927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TRE"/>
              </a:rPr>
              <a:t>MIT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Verdana"/>
              </a:rPr>
              <a:t>Mercury Computer Systems, Inc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MITRE"/>
              </a:rPr>
              <a:t>Carleton Univers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294200" y="5257800"/>
            <a:ext cx="331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08080"/>
                </a:solidFill>
                <a:uFillTx/>
                <a:latin typeface="Times New Roman"/>
              </a:rPr>
              <a:t>Jerry Bick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Raythe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+1-260-429-628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Times New Roman"/>
              </a:rPr>
              <a:t>Gerald_L_Bickle@Raytheon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5982C-BCEE-4944-8B2B-154F9536537B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600" y="96840"/>
            <a:ext cx="777240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PIM Model Example –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le Classes &amp; Interface Relationship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828800" y="1295280"/>
            <a:ext cx="6407280" cy="5276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A0CA-9CB8-4111-A45A-6426667EBEB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M Modeling Conven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M is based on UML CORBA pro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pping or Refines rules have not been defined yet for PSM to PI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s Examp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Interface can map to Class and 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Primitive types can map to primitive types in P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 types (CORBAEnum, CORBAStruct, CORBASequence, etc.) can map to types in PI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pping rules per technology? Same for all PIM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RB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+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5B2-7246-4040-B74C-D5AF1E5A5C2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SM Model Example – Applica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596880" y="1471680"/>
            <a:ext cx="8531280" cy="4781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6E7A4-9A81-4010-ACB5-C851E354283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Helv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I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SWRADIO Web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nal Rose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ML Ver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Helv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Word file that describe the definitions of the classes and interfaces within a pack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539A8-C719-4487-ADC1-038D8705C3BD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Modeling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&amp; PSM Relations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M Model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M Modeling Conven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SM Modeling Exa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m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06A4-0D49-4C07-9E0A-D21FC775822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M Model Conventions, UML Class Diagram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RADIO PIM Expressed with U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a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reoTyp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umer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im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6473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sed when two or more classes have different behavior for set of opera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28760" indent="-2124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mphasize cohesive set of functionality and used by a different client ro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09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D234E-B003-4821-96FA-34DA2A2AC3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M Model Conventions, Other UML Diagrams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ML Diagrams, cont’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ass Diagram, cont’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ationshi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ssoci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ggreg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posi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42884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iz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Chart Diag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Used for class behavior and class attributes that have sta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quence/Collaboration Diagr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28600">
              <a:lnSpc>
                <a:spcPct val="9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picts the interactions of objects based upon the class relationships in the PI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ing Conventions for Classes, Packages, Associations, Roles, Stereotypes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rameters syntax is CORBA synt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havioral text descriptions for ope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D102-3BE5-47B3-9B51-CF34CD5BA55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M Modeling Conven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agrams Not Used as of Y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ity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 Case Diag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quence/Collaboration Diagra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ve not used OCL y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DB11A-D8E1-4745-A116-919EC1FC70A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00200" y="426600"/>
            <a:ext cx="5867280" cy="97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80880" y="0"/>
            <a:ext cx="87631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IM and PSM Relationship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533840" y="1231920"/>
            <a:ext cx="1346400" cy="9399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959200" y="3149640"/>
            <a:ext cx="1104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08440" y="3111480"/>
            <a:ext cx="12603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W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(Domain Specific) 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47240" y="1219320"/>
            <a:ext cx="123696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odel (P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205520" y="27655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803920" y="4952880"/>
            <a:ext cx="125712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803920" y="4991040"/>
            <a:ext cx="119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M PS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 flipV="1">
            <a:off x="5270040" y="2158920"/>
            <a:ext cx="1019160" cy="99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3708360" y="2158920"/>
            <a:ext cx="1333440" cy="1028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67560" y="24415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21040" y="5226120"/>
            <a:ext cx="1181160" cy="1168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V="1">
            <a:off x="3441600" y="4215960"/>
            <a:ext cx="1800" cy="10191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3720" y="5207040"/>
            <a:ext cx="12492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W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Platfor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Specif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c3300"/>
                </a:solidFill>
                <a:latin typeface="Arial"/>
              </a:rPr>
              <a:t>Model (P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519720" y="436572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800280" y="1638360"/>
            <a:ext cx="1104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52560" y="1790640"/>
            <a:ext cx="110484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104840" y="1943280"/>
            <a:ext cx="1104840" cy="1066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079640" y="2108160"/>
            <a:ext cx="1218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OMG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ORBA Servic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43040" y="2212920"/>
            <a:ext cx="104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ightweight</a:t>
            </a: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erv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9589400">
            <a:off x="2209680" y="2320560"/>
            <a:ext cx="88920" cy="88920"/>
          </a:xfrm>
          <a:prstGeom prst="triangle">
            <a:avLst>
              <a:gd name="adj" fmla="val 50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7280" bIns="-17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76640" y="2392200"/>
            <a:ext cx="757080" cy="747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803520" y="3152880"/>
            <a:ext cx="1716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bed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altime Pro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amp; Framework f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WRADI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08520" y="3209760"/>
            <a:ext cx="11988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Deploym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CM PI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08520" y="3124080"/>
            <a:ext cx="1257480" cy="939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291720" y="1247760"/>
            <a:ext cx="2143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Deploy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ce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33520" y="3444840"/>
            <a:ext cx="638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877000" y="143496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302240" y="3171960"/>
            <a:ext cx="1194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terpri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ramewor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943680" y="334980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315120" y="406404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320160" y="428796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4114800" y="5254560"/>
            <a:ext cx="1695600" cy="571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53200" y="5135400"/>
            <a:ext cx="79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aps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44A8-F7F0-486D-BFAD-5D2BC9D68B9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838080" y="0"/>
            <a:ext cx="8077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PIM Model Example -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55504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25360" y="990720"/>
            <a:ext cx="8918640" cy="55116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E419-07F9-4BAF-B6A9-D6BEC9B4617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09680" y="0"/>
            <a:ext cx="807696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PIM Model Example - </a:t>
            </a:r>
            <a:br>
              <a:rPr sz="3200"/>
            </a:b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pplicationFac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8586720" y="614196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04960" y="20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-228600" y="1295280"/>
            <a:ext cx="9599760" cy="456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434F-E854-47CB-BE21-4D6B4F56D1B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600200" y="96840"/>
            <a:ext cx="5867280" cy="96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0"/>
            <a:ext cx="8077320" cy="96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WRadio PIM Model Example –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Domain Mana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512920" y="6541920"/>
            <a:ext cx="586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1905120"/>
            <a:ext cx="9601200" cy="43862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4F5-C936-4FC2-9DD0-17C069950D0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8T03:14:17Z</dcterms:created>
  <dc:creator>pae</dc:creator>
  <dc:description/>
  <dc:language>en-US</dc:language>
  <cp:lastModifiedBy>Gerald Lee Bickle</cp:lastModifiedBy>
  <cp:lastPrinted>2001-04-17T19:56:05Z</cp:lastPrinted>
  <dcterms:modified xsi:type="dcterms:W3CDTF">2002-04-24T03:57:04Z</dcterms:modified>
  <cp:revision>136</cp:revision>
  <dc:subject/>
  <dc:title>SCA Q&amp;A Forum</dc:title>
</cp:coreProperties>
</file>